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A23A-DBF2-47BF-A8AE-4A1B4E316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7389E-862D-435A-9FB9-8B753F38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1429F-D002-4D28-BC5B-74D321C5C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9874D-4844-400F-9C6B-217FE6B6C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2BF28-5D87-45C5-AE01-F8F72F485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94572-4976-40E8-AF7A-7C8C1A459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0B641-5B3F-4168-91CC-8DA7FC36A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55621-7F8D-431B-9129-C5CE8BE5E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5948D-39E4-4CAB-95A7-96F5DF86B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88293-836E-4AC5-A700-D2E0028E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8E0A7-9713-4C03-A934-B17EB4AA8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8357-B52D-43B2-85A8-0C45B78D8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28885-41CC-48BA-96B2-59A16062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677A1-FA9E-4810-8020-B6D46164C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31DA4-25CE-4F3C-B192-4A6374436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B5B98-F1F4-47EC-85FB-84BE0470A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6804D-9A7E-41F2-ACC5-50EDBE9BA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38AA82-3610-444B-8505-562704570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F364A-4154-47FF-898B-B69DC0830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E586C-3316-4508-BF67-2E8E34FAF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1F264-2127-487B-9377-289F95026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A4A169-AB13-41D6-A5B8-FB9D5C671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47D3-602F-40C6-BF3F-CEAEDDFC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1A0AC-BFAC-4821-8A58-69FA6C927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53293-5CCF-49A8-9CCA-9F50DB161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9EDB4-EA53-42FE-8848-18A7774BC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C7083-F34F-4733-9F2B-56DF51454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CF421-7978-49EC-97DF-6C63708A5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C3B906-C208-4EE2-B9F5-905BCFB1DA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A0B0A-3E59-4696-8164-E769DD6010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DDA04E-7DE9-4518-A8CE-091A32A885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75484-B790-4448-9FAD-5E8506137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8FEA2-33F5-4267-BFE0-0937FAA59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57DC0-64B8-44A5-ABBF-FCBF493E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91849-DBC0-4067-B39F-01A6A6414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54C16-BB82-4C3B-A624-1246C04D8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C5B3C-05AC-468D-9172-12BC7C045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8E797-C838-4BF1-996A-BD19D2F7D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F88A1-D3F1-4DA6-A1C1-EB57219A0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4897E-40B6-461D-858D-B2CA45E7A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67E76-9D4C-42AD-B675-7013E9A77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7ACE2E-D5BE-475F-8F00-7DB3ED537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47572-ACE0-40FD-A782-26BEDE5FDD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C53B1-5F21-4277-8112-0FC2B4F699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07200-E924-4490-AC1F-FDD5AA8C4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C40E6-3468-4C4E-A1D0-A1BA30CB4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C8E0B-FD9C-4C9A-A761-2CB798D17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E5572-A0E4-483F-80B3-7180E819B3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20264-69B5-4CFE-B73B-89705973F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69C3E-ADF4-405E-9B9F-8D6CB211E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2C36A-0E9D-4999-84AF-3BEB9C3DC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886B6-B3E1-43DD-8563-EF9393A87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F8505-C371-430E-8CB2-5DF11CE0D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652E8-07C1-4655-B7D4-2AFA84F89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7238DB-7B24-41D0-A327-E76EB9B5EE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AE3B-6904-4815-BC58-87F46F02F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FDD5B4-83BE-4B41-A9A8-5D16532F1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EBF8D-1AA3-40BD-847D-FD4CC59BEA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333B2-A920-43F8-A70D-04C11247F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DE0A8-3B2A-4B52-A9F7-E62875064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1FA52-50B1-401A-84D1-802697F7B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2D6A0-DBD4-49E6-BE0D-34A9E1374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4765A-E9C6-48A4-A28E-433DFB0D98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770E7-6608-4521-94CB-C89EC645B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16EA7-CE92-47F2-AC75-B44396EDB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31150-3786-4CCC-8405-28F084023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7D4B-0AF7-44D3-A1CB-B26A8C26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149AD-F844-4537-81EE-BBF921785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F42721-40D2-4D97-96E8-8BE813477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D40DA-4FF8-4F95-B36A-3A3FBFE6F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ECD193-A4F8-4D9C-86FD-635A1DA331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B295C3-BEFB-4198-AC7B-287435266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4893CF-4701-4CBA-B9E4-4104096485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B3E02-527C-4446-B164-F285A519A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DF98FD-326C-477E-9FEB-DB6F99C6B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40A81-BCBB-46CE-BE1D-590C9AE7B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73599-90B0-475D-B7F0-A91BE5360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9139F-CCD2-4DE8-874A-B0DBF1C1F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68F7E-ED1A-48BC-8C2A-6BB08DE73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E5F1A-EEA4-4765-B413-5E22F81BF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520078-923E-4D32-A8EA-FED203DE2C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91D110-836A-407C-9423-686913DDA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72C1FA-E6B1-42ED-A67F-EAAAD0D0B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0FDE-3C4B-40C8-A600-4D3F2223C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8C64-F416-4162-9490-93C2898863E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694E-5F75-4060-B04E-DAA65643B15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6F1E-5C41-4D09-AA01-8548190039D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AB39-F141-4DDF-A941-69C419F5B65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A4BD-E1C2-4C82-A6D2-65C89A604E4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E47A-661C-4B61-893A-4B8446474A5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63C6-8A98-45BB-A4FA-7BE6724F214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p:cNvPicPr/>
          <p:nvPr/>
        </p:nvPicPr>
        <p:blipFill>
          <a:blip r:embed="rId1"/>
          <a:stretch/>
        </p:blipFill>
        <p:spPr>
          <a:xfrm>
            <a:off x="2362320" y="2590920"/>
            <a:ext cx="4733640" cy="3865320"/>
          </a:xfrm>
          <a:prstGeom prst="rect">
            <a:avLst/>
          </a:prstGeom>
          <a:ln w="0">
            <a:noFill/>
          </a:ln>
        </p:spPr>
      </p:pic>
      <p:pic>
        <p:nvPicPr>
          <p:cNvPr id="398" name="Rectangle 5" descr=""/>
          <p:cNvPicPr/>
          <p:nvPr/>
        </p:nvPicPr>
        <p:blipFill>
          <a:blip r:embed="rId2"/>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4" name="Picture 4" descr=""/>
          <p:cNvPicPr/>
          <p:nvPr/>
        </p:nvPicPr>
        <p:blipFill>
          <a:blip r:embed="rId1"/>
          <a:stretch/>
        </p:blipFill>
        <p:spPr>
          <a:xfrm>
            <a:off x="1905120" y="2133720"/>
            <a:ext cx="5900760" cy="3747960"/>
          </a:xfrm>
          <a:prstGeom prst="rect">
            <a:avLst/>
          </a:prstGeom>
          <a:ln w="0">
            <a:noFill/>
          </a:ln>
        </p:spPr>
      </p:pic>
      <p:sp>
        <p:nvSpPr>
          <p:cNvPr id="405"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09"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13" name=""/>
          <p:cNvSpPr txBox="1"/>
          <p:nvPr/>
        </p:nvSpPr>
        <p:spPr>
          <a:xfrm>
            <a:off x="914400" y="1295280"/>
            <a:ext cx="7772400" cy="4572000"/>
          </a:xfrm>
          <a:prstGeom prst="rect">
            <a:avLst/>
          </a:prstGeom>
          <a:noFill/>
          <a:ln w="0">
            <a:noFill/>
          </a:ln>
        </p:spPr>
        <p:txBody>
          <a:bodyPr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Center for Digital Storytelling. (2009). The evolution of digital storytelling:</a:t>
            </a:r>
            <a:br>
              <a:rPr sz="1700"/>
            </a:br>
            <a:r>
              <a:rPr b="0" lang="en-US" sz="1700" spc="-1" strike="noStrike">
                <a:solidFill>
                  <a:srgbClr val="ffffff"/>
                </a:solidFill>
                <a:latin typeface="Corbel"/>
              </a:rPr>
              <a:t>An abbreviated history of key moments during the first sixteen years (1993-2006). Retrieved July 2, 2009, from http://www.storycenter.org/timeline.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Tucker, G. (2006). First person singular: The power of digital storytelling. </a:t>
            </a:r>
            <a:r>
              <a:rPr b="0" i="1" lang="en-US" sz="1700" spc="-1" strike="noStrike">
                <a:solidFill>
                  <a:srgbClr val="ffffff"/>
                </a:solidFill>
                <a:latin typeface="Corbel"/>
              </a:rPr>
              <a:t>Screen Education, 42</a:t>
            </a:r>
            <a:r>
              <a:rPr b="0" lang="en-US" sz="1700" spc="-1" strike="noStrike">
                <a:solidFill>
                  <a:srgbClr val="ffffff"/>
                </a:solidFill>
                <a:latin typeface="Corbel"/>
              </a:rPr>
              <a:t>, 54-58.</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Wikipedia. (2009). </a:t>
            </a:r>
            <a:r>
              <a:rPr b="0" i="1" lang="en-US" sz="1700" spc="-1" strike="noStrike">
                <a:solidFill>
                  <a:srgbClr val="ffffff"/>
                </a:solidFill>
                <a:latin typeface="Corbel"/>
              </a:rPr>
              <a:t>Digital storytelling. </a:t>
            </a:r>
            <a:r>
              <a:rPr b="0" lang="en-US" sz="1700" spc="-1" strike="noStrike">
                <a:solidFill>
                  <a:srgbClr val="ffffff"/>
                </a:solidFill>
                <a:latin typeface="Corbel"/>
              </a:rPr>
              <a:t>Retrieved June 25, 2009, from http://en.wikipedia.org/wiki/Digital_storytelling</a:t>
            </a: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1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10T02:11:43Z</dcterms:modified>
  <cp:revision>48</cp:revision>
  <dc:subject/>
  <dc:title>Digital Storytelling</dc:title>
</cp:coreProperties>
</file>